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251-B6BD-4B49-B7A8-A547C173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73E-DEC9-4196-9A7E-F553A030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2D0-540E-42B7-86B2-929FB930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F97-3D06-4BEB-A032-6826EA8E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B56C-FBA6-472C-8881-5005EEED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13E4-004A-4DF6-939C-381F88F0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1E8F-C598-4279-AC35-EB8FE200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00B3-3706-4089-B151-0AD2C6B8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5958-3B2B-475B-B72C-D35FC254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F969-9626-4E36-B9EB-252A2256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5587-E869-48AA-A423-2250FE59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4CA-6D4A-47CE-92C3-6ECA3042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8CD5-2A17-4A18-9C07-3654A566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5925-6D9B-408E-B26F-9411E18F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5FDA-95F4-4993-804A-A4E6E720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B192-DDA4-4D26-BF48-0DEA7D60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259A-6996-4300-8F94-86D7D702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31D-37D4-481F-9BBA-AF84D83F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487-3ED3-425E-A1E3-A2832059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54A-70F1-4635-8E00-00FD0BC6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4DF-9B23-42F4-B5D0-78D717B9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F57-DF54-4C17-B12A-97C83C21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44F-A19A-49F2-B323-B800F410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911-AB25-46BE-B4CE-645A3660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C752-49CF-4EB5-B0E8-9D3F0C0DA9C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7BDB-41F0-4001-B188-417C6894298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747720"/>
            <a:ext cx="914400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La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.. bullying viene del inglés. Se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.. de un acoso sistemático que se produce por parte de uno o varios acosadores a una o varias víctimas. Los centros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3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 son lugares propicios para ello y suele pasar desapercibido por parte del profesorado, en patios, servicios,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4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.. de educación física, a la salida del centro o en el transporte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5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Los motivos del bullying son numerosos, aunque las victimas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6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 ser aquellas que presenten algún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7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 característico que las haga aparecer como “diferentes” ante los ojos de los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8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. 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Hay que estar alerta ante lo que les pasa a los niños, observar los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9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.. de conducta que tienen, si no quieren salir o se pasan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10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 tiempo solos. Es importante saber como se llevan con sus compañeros y tener presente que las personas que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11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 esta situación llegan a tener tan baja autoestima que se avergüenzan de si mismos. El bullying puede darse entre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12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 edad. Se dan casos en párvulos, pero suele ser mucho más grave en la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13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….. Es un fenómeno que afecta a todas las clases sociales y se da por igual en niños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14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……….. en niñas.</a:t>
            </a:r>
            <a:r>
              <a:rPr b="0" lang="en-GB" sz="24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52280"/>
            <a:ext cx="8534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l bullying o el acoso escola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95880"/>
            <a:ext cx="9144000" cy="6858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acosadores / escolares / rasgo / adolescencia / sufren / vestuarios / suelen /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palabra / como / cualquier / cambios / trata / demasiado / escol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14:15:33Z</dcterms:created>
  <dc:creator>Francisco</dc:creator>
  <dc:description/>
  <dc:language>en-US</dc:language>
  <cp:lastModifiedBy>Francisco</cp:lastModifiedBy>
  <dcterms:modified xsi:type="dcterms:W3CDTF">2005-07-22T15:00:35Z</dcterms:modified>
  <cp:revision>1</cp:revision>
  <dc:subject/>
  <dc:title>PowerPoint Presentation</dc:title>
</cp:coreProperties>
</file>